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61F-CD08-44F1-A29B-2EC3F76C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A56-A812-4ADC-826E-8EEC5FC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E5F-5B55-419A-9301-4F3B32EB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8C2-72E4-425C-933D-F5EFE6C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8551-7522-4438-9DA2-4379F6E8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D7A-C6A6-4A1A-A2BE-7032329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A53C-3458-4DDF-912B-678E9ED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3F74-4172-4CD2-8D29-1DEDAC56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C91-75BD-4928-9935-3EB8A89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753-6376-400F-BBBD-1E4C997F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1C06-5B95-41CB-B783-202DBEF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8D2-85B3-4043-8115-206F24A0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1CB2-E908-4326-831A-79822A7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4AD4-C078-45F8-9CF1-523FCC3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CBF-B681-4199-9944-6EE7EB5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4A28-8516-4BCE-9CB6-888546B7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7753-1927-446D-91F3-43A5E911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7AE-B273-4E23-A72B-4A9B6C3A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F5A-5E4F-4622-9A28-5DB5EC6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5D6-F716-4A30-81E2-876F828C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7DB-E6D6-404B-9D6F-99FAA94B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786-139F-420F-BB80-8D01F32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222-B437-4F27-BBDF-0638F17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5A9-AED9-42C6-8189-4D912EE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CEA-D043-44F5-B518-E5FFBFD61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2A2C-ED3D-434F-9A40-64A6B9342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et i Bridg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oring av spil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mmenligning av scor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og utregning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coring av spillet ved bordet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te er detaljert satt opp i § 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Utregningsmetoder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aljene finnes i § 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Reglene om minst 60 %  og bruken av Neubergs formel er hjemlet i denne paragraf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e også plansjeserien turneringsfor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tregn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øren bestemmer  hvilken utregningsmetode som skal bruk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som IMP eller MP brukes så gjelder reglene for bruken av dem i § 78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Neuberg’s formel er kun tilgjengelig i BK200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Justeringer må gjøres manuelt i andre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anuell sco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es om d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lederboka Bjarne Mathi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lemen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nskap av Per Nor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tch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2 poeng for alle svaker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alle lik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justerte scorer på andre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ummer resultatet for et lag - se i tabell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ummen av IMP gir grunnlaget for beregning av V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Øvingsopp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 SlipperR 1-4 fra Kilder\Nordland\Regnsk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med datamaski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Resultatene tastes inn i maskin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 på inntastingsbil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till inn beregningen slik du vil ha 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ruk kontrakt og stikk og evt. kontroll med score for å redusere feilpros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erieturneringer Butlerscore scores pr b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Howell og Mitchell turneringer scores pr spil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er scores pr kam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11:16:54Z</dcterms:created>
  <dc:creator>Per Nordland</dc:creator>
  <dc:description/>
  <dc:language>en-US</dc:language>
  <cp:lastModifiedBy>Per Nordland</cp:lastModifiedBy>
  <dcterms:modified xsi:type="dcterms:W3CDTF">2001-09-29T14:42:12Z</dcterms:modified>
  <cp:revision>1</cp:revision>
  <dc:subject/>
  <dc:title>Regnskapet i Bridge</dc:title>
</cp:coreProperties>
</file>